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491-147E-4A6C-8CD2-FE148A8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128-E584-40C8-88D9-406FCBD0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DAA-6464-4AF4-8302-7537F70F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D1F-65A0-4D95-8A12-FF4F4E9C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908-FB6E-4CCC-B87D-2406170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79B-2FFC-4ABB-829B-1EDC24E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7A2-91F1-43B2-9501-0E1A39E6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C32-15E0-4A0E-815C-633A17CA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7F1-4F77-442E-91FE-2859EEFB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2DD-818F-4507-87A4-F8BF5B2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2CD-D66F-4307-AE51-8E19D00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A00-6481-49E2-8E28-E831A0D1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9FF-C09C-4923-B865-2EA5E9E33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1" descr=""/>
          <p:cNvPicPr/>
          <p:nvPr/>
        </p:nvPicPr>
        <p:blipFill>
          <a:blip r:embed="rId1"/>
          <a:stretch/>
        </p:blipFill>
        <p:spPr>
          <a:xfrm>
            <a:off x="-274680" y="-115920"/>
            <a:ext cx="5688000" cy="1506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04920" y="1523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imitation of some real thing, state of affairs, or proces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for interaction and visualization of an act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ounded Rectangle 5"/>
          <p:cNvSpPr/>
          <p:nvPr/>
        </p:nvSpPr>
        <p:spPr>
          <a:xfrm>
            <a:off x="5410080" y="3200400"/>
            <a:ext cx="3200400" cy="34290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429000"/>
              <a:gd name="textAreaBottom" fmla="*/ 3272760 h 3429000"/>
            </a:gdLst>
            <a:ahLst/>
            <a:rect l="textAreaLeft" t="textAreaTop" r="textAreaRight" b="textAreaBottom"/>
            <a:pathLst>
              <a:path w="21600" h="23143">
                <a:moveTo>
                  <a:pt x="3600" y="0"/>
                </a:moveTo>
                <a:arcTo wR="3600" hR="3600" stAng="16200000" swAng="-5400000"/>
                <a:lnTo>
                  <a:pt x="0" y="19543"/>
                </a:lnTo>
                <a:arcTo wR="3600" hR="3600" stAng="10800000" swAng="-5400000"/>
                <a:lnTo>
                  <a:pt x="18000" y="23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was ready to dissect the frog after completing an onlin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imulati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of what they were about to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051youngr\Local Settings\Temporary Internet Files\Content.IE5\G1L885TS\MPj04412280000[1].jpg"/>
          <p:cNvPicPr/>
          <p:nvPr/>
        </p:nvPicPr>
        <p:blipFill>
          <a:blip r:embed="rId2"/>
          <a:stretch/>
        </p:blipFill>
        <p:spPr>
          <a:xfrm>
            <a:off x="457200" y="3276720"/>
            <a:ext cx="2540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6:52:12Z</dcterms:created>
  <dc:creator>Administrator</dc:creator>
  <dc:description/>
  <dc:language>en-US</dc:language>
  <cp:lastModifiedBy>Administrator</cp:lastModifiedBy>
  <dcterms:modified xsi:type="dcterms:W3CDTF">2009-03-13T17:03:35Z</dcterms:modified>
  <cp:revision>2</cp:revision>
  <dc:subject/>
  <dc:title>Slide 1</dc:title>
</cp:coreProperties>
</file>